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7F6-E7CF-482F-9FB7-F1A73ACE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9BA-7176-4B72-8F0E-BBBD13DB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757-8AE4-4A2A-B051-094207F1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8095-267F-4464-941D-0CDCF8AA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BB0-B297-477E-8EC5-4147A884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30E-BF0A-4A40-BAC6-A03C46B2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C11-2D3B-40E3-AE8F-EBED26EC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FCD-9A06-4357-AAA6-19F5D474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54C-D698-457E-A0FE-440AF331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9FAF-533B-4F99-AEE4-E7F8907F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5A39-60C3-4B00-AAE0-3433274C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220-4FE5-4276-A584-792E7046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32DA-CBF6-4F0A-AB23-013801D28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mbres.lycos.fr/jackvance/art/g5_lettre2.jp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-523" t="0" r="0" b="6101"/>
          <a:stretch/>
        </p:blipFill>
        <p:spPr>
          <a:xfrm>
            <a:off x="90000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3:54:30Z</dcterms:created>
  <dc:creator>badgers</dc:creator>
  <dc:description/>
  <dc:language>en-US</dc:language>
  <cp:lastModifiedBy>badgers</cp:lastModifiedBy>
  <dcterms:modified xsi:type="dcterms:W3CDTF">2006-09-27T14:05:06Z</dcterms:modified>
  <cp:revision>2</cp:revision>
  <dc:subject/>
  <dc:title>Slide 1</dc:title>
</cp:coreProperties>
</file>